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0588-DAA5-46F3-84C6-5D06237F8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0146-112D-4ACE-A760-5A8025EFCE7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This could be written as M = 25a + 5t +25p, where M is measured in c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C4FA-7EA6-42B9-B063-F60A5313D2F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orrowing 6000 at 3.5% interest for 60 mon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 = 6000(0.035)(1 + 0.035)^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 + 0.035)^60 –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= $240.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(5600, .00825, 4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 = 5600(0.0825)(1 + 0.0825)^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 + 0.0825)^48 –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= 421.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24B3-4AC1-48C0-A21E-B89286D207D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x, different y not a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727-6131-403E-9AEB-920D5CCF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8E08-68CB-46AD-9F1F-2534719E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1A71-2B23-48D8-B905-C7F053AF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47ED-B018-4A89-9B20-AC4060D0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E346-B4E6-400D-8F42-0D61174F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2094-9E2B-43B1-A9BA-DC5FB82F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F097-3B4E-4EE3-B654-7E3295BA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ADDB-A8FF-44D7-8C13-9C5A0FC8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414D-0ABA-4105-AD96-48CA8EA5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45F0-CBA8-4CBB-9AB2-9BB5A190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A38B-4809-4FE1-96FF-776B5F5A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CDDE-E133-447F-A547-BA19AAAE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BDFE-492B-4220-B558-6DF82642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BA1C-FDC5-4D09-98D6-A19F5F69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D1B5-A9A7-4C43-925A-9DA5CE77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0996-AD75-489D-8905-62B9AF28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EC6E-C4C1-4242-A919-D5BF020D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28C72-C335-45E2-81A1-7C80B706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3D221-6177-4D0A-9F0A-F31DDC61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C9574-5308-432B-98DB-9C26D6B7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B0487-8740-4F62-8169-6636388A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8B664-26E2-4DFE-9A4E-5C7CC6A5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A43-1D1C-4A19-85B1-53CC2DC2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CBD6D-6FE8-41EB-A898-3E0B3C48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94E35-4251-480D-9787-CDFBA4CB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29F7E-0AAF-4854-BA8C-4DA994CB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72D4E-CCDB-4F81-963E-458AC121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1DA0E-040E-4510-BAAB-13151BBB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1DCF2-EC40-4C1E-B83A-BD218F9F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05369-0790-4439-8E79-18633FAF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518B4-03BD-4A85-B4A8-334DE969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3697B-69EE-41CE-B6A4-2C69BEB9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C02E6-A994-4ABB-867C-75AE6EE7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136D-8199-4394-B174-1015C07F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9EA47-7111-49CE-9AE2-5E85825A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D1A29-9FF6-4E90-AC44-0ABBBE94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99328-E23D-441F-A691-350A3240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75BF2-7884-400F-AEEE-95E9A9A0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E5144-F4C6-40D2-8326-39BBA443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7DC51-FA32-47EF-998D-029601A6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6DECD-A07E-4E48-A3D8-F189FC8A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599FC-D9C1-41A6-BEC6-C859889F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AC308-5564-46B9-8096-A0BCC3FA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A5B9A-36EB-4812-AE55-C749F7D9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58DF-26DC-4B59-90F1-9B1540C1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1D50C-1869-4CCD-AD30-D7E003FB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2DDBD-B9D1-408B-A25D-FE927828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7C925-D461-4330-AF0A-63AEF704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B8167-187B-4F56-9DF9-CF7F98E2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27DD6-ACA9-4E59-B992-86BF6672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E096F-BCA4-4232-8F82-12DC9925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6D3D0-34D9-4B71-AC1F-F8AA2C4C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C752C-7D5A-42EC-BF67-5E75CF9A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14F2E-C425-4E0D-A64A-CE035AAE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B6890-E710-4074-95E0-8C73679D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E6EB-0494-461C-8215-A764116B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02324-7AC7-4774-BE5D-AB0CADC8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FD693-CC32-4622-AD28-7258AC60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FA6A7-B68D-4729-9943-1E2BDE6A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575E8-AE44-4536-82C9-039E5826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64DA9-294D-4B1E-990A-2586DCB1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E9AF7-3D34-4097-9BE9-BCE96655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ADCAA-A69B-4223-A50F-E27889C1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1D431-FBD8-43A6-B746-EE197461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EE543-6691-4773-A12D-1C54CBAB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D64EB-0CEC-4254-98FB-6CC92F64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D602-DBFA-4C1C-BF0D-A296DF54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4F5C9-1D3C-4787-9F83-4D08CC56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46A19-F9AB-40FC-84D3-56563BAC1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1F533-E6E7-4F5F-BB19-3E2B9CB0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78F5D-FF69-4440-902E-358E347E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BB677-50C2-4218-8B26-01EB3E41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9051A-C817-4C72-905C-44C76100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ED63C-3918-4C1B-B4ED-F316CE2C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B7C03-2F3B-4DBF-B173-9CEF2143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31BAF-779A-4B4F-9DA0-CC2D29EF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63B5B-BA51-464B-95BF-AAD2762E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B978-9D30-4F93-87B4-4C2A1524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E9308-4B77-44B8-8BEE-E3127CE2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71C39-5B94-473F-B2F8-F5558142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39F9A-8439-47D6-B6CA-3BBD8C06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4986C-0EF4-4ECA-81E8-463BD86B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5BE85-A929-4A0D-B0AB-2533E3A6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EF36B-60F1-40C2-87E6-71F49B83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630CF-06D1-4BD5-B420-4F012477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0BF89-32BC-4A21-A58B-C8C97C5D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81796-1E92-43F8-9184-73A8407A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A0221-E249-4FF7-A8DB-F3918F73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4CA3-14CF-45B6-9D30-F3D29FB2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DDB32-61CA-4854-B43C-B3A963AF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DF82F-7347-4DB7-83EB-7D591972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428D6-6E2F-43BE-8B2E-0B54D8F4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4FF57-FD9B-4A50-ABA8-22952DB0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5F1F4-AB8D-49B2-80B3-CD588FD2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B7069-9455-44C7-B76F-86B73B81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89216-4326-4A4C-8556-00279391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A624-86B5-454C-B416-9E61794CAD9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B407-4E71-4CF2-A8B1-E8948B6F303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1DDD-4772-4261-9588-90F82B4B9DD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C2D5-D6FF-40FA-B8FB-39E6002A006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7E86-FE49-4765-8D2E-B2D6847EFB9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2FB6-E687-4E4A-A4B2-CA42BDEC70F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326A-F871-4266-BBCA-51DA0E6239F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68DB-E32E-40E6-9EB6-C5D228DA08B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hapter 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etermining Functio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etermine if the relation is a func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3, 2), (4, 2), (5, 2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1, 2), (-1, 3), (1, 7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Vertical Line Te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the vertical line test to determine whether each graph represents a func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1" name="Freeform 4" descr=""/>
          <p:cNvPicPr/>
          <p:nvPr/>
        </p:nvPicPr>
        <p:blipFill>
          <a:blip r:embed="rId1"/>
          <a:stretch/>
        </p:blipFill>
        <p:spPr>
          <a:xfrm>
            <a:off x="890640" y="2889360"/>
            <a:ext cx="804960" cy="1384200"/>
          </a:xfrm>
          <a:prstGeom prst="rect">
            <a:avLst/>
          </a:prstGeom>
          <a:ln w="0">
            <a:noFill/>
          </a:ln>
        </p:spPr>
      </p:pic>
      <p:pic>
        <p:nvPicPr>
          <p:cNvPr id="452" name="Freeform 5" descr=""/>
          <p:cNvPicPr/>
          <p:nvPr/>
        </p:nvPicPr>
        <p:blipFill>
          <a:blip r:embed="rId2"/>
          <a:stretch/>
        </p:blipFill>
        <p:spPr>
          <a:xfrm>
            <a:off x="2498760" y="3097080"/>
            <a:ext cx="1469880" cy="968400"/>
          </a:xfrm>
          <a:prstGeom prst="rect">
            <a:avLst/>
          </a:prstGeom>
          <a:ln w="0">
            <a:noFill/>
          </a:ln>
        </p:spPr>
      </p:pic>
      <p:pic>
        <p:nvPicPr>
          <p:cNvPr id="453" name="Line 7" descr=""/>
          <p:cNvPicPr/>
          <p:nvPr/>
        </p:nvPicPr>
        <p:blipFill>
          <a:blip r:embed="rId3"/>
          <a:stretch/>
        </p:blipFill>
        <p:spPr>
          <a:xfrm>
            <a:off x="4632480" y="2951280"/>
            <a:ext cx="1628640" cy="1182600"/>
          </a:xfrm>
          <a:prstGeom prst="rect">
            <a:avLst/>
          </a:prstGeom>
          <a:ln w="0">
            <a:noFill/>
          </a:ln>
        </p:spPr>
      </p:pic>
      <p:pic>
        <p:nvPicPr>
          <p:cNvPr id="454" name="Freeform 8" descr=""/>
          <p:cNvPicPr/>
          <p:nvPr/>
        </p:nvPicPr>
        <p:blipFill>
          <a:blip r:embed="rId4"/>
          <a:stretch/>
        </p:blipFill>
        <p:spPr>
          <a:xfrm>
            <a:off x="7059600" y="2798640"/>
            <a:ext cx="87156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Title 3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1.3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s it a function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ust verify that each input value corresponds to a single output valu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lop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Slope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= rate of change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or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=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orbel"/>
                <a:ea typeface="宋体"/>
              </a:rPr>
              <a:t>change in 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change in x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=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orbel"/>
                <a:ea typeface="宋体"/>
              </a:rPr>
              <a:t>∆y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or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   ∆x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or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=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orbel"/>
                <a:ea typeface="宋体"/>
              </a:rPr>
              <a:t>Rise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Ru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5"/>
          <p:cNvSpPr/>
          <p:nvPr/>
        </p:nvSpPr>
        <p:spPr>
          <a:xfrm>
            <a:off x="2438280" y="1523880"/>
            <a:ext cx="2971800" cy="2286000"/>
          </a:xfrm>
          <a:prstGeom prst="rect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lope- given poin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For points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slope =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A positive slope goes up as you read the graph from left to right. (A negative slope goes down as you read the graph from left to right.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As the absolute value of the slope gets larger, the steepness of the incline increase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464" name="Object 4"/>
          <p:cNvGraphicFramePr/>
          <p:nvPr/>
        </p:nvGraphicFramePr>
        <p:xfrm>
          <a:off x="2514600" y="2344680"/>
          <a:ext cx="1219320" cy="11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44680"/>
                    <a:ext cx="121932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Object 5"/>
          <p:cNvGraphicFramePr/>
          <p:nvPr/>
        </p:nvGraphicFramePr>
        <p:xfrm>
          <a:off x="2590920" y="1752480"/>
          <a:ext cx="259056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1752480"/>
                    <a:ext cx="25905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Calculate the slope between each pair of poin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907920" indent="-43632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(7, 2) and (4, -3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907920" indent="-43632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(8, 2) and (-8, 6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verage Rate of Chang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=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  <a:ea typeface="宋体"/>
              </a:rPr>
              <a:t>Change in function value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Change in x valu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=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  <a:ea typeface="宋体"/>
              </a:rPr>
              <a:t>f(b) – f(a)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b – 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verage Rate of Chang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ge 75 # 4- Baby Girl’s Average Weigh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verage Rate of Chang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ge 75 #6- Divorce Rat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athematical Mode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mathematical model is a graphical, verbal, numerical, or symbolic representation of a problem situati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verage Rate of Chang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ge 79 #16- Exxon Mobi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nterpreting Dat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ge 81 #20-U.S. Home Sal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  <a:ea typeface="宋体"/>
              </a:rPr>
              <a:t>Functions of several variab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宋体"/>
              </a:rPr>
              <a:t>Sometimes functions depend on more than one variabl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宋体"/>
              </a:rPr>
              <a:t>A pay as you go service is as follows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58080" indent="-25416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Phone bill = airtime + text messages + picture messag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58080" indent="-25416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M = .25a + .05t + .25p, where M is measured in dollars.  M = M(a, t, p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885600" indent="-203400">
              <a:spcBef>
                <a:spcPts val="499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宋体"/>
              </a:rPr>
              <a:t>airtime = 25 cents per minut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885600" indent="-203400">
              <a:spcBef>
                <a:spcPts val="499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宋体"/>
              </a:rPr>
              <a:t>text messages = 5 cents eac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885600" indent="-203400">
              <a:spcBef>
                <a:spcPts val="499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宋体"/>
              </a:rPr>
              <a:t>picture messaging = 25 cents eac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Explain what M(300,15,8) means and find its valu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5"/>
          <p:cNvSpPr/>
          <p:nvPr/>
        </p:nvSpPr>
        <p:spPr>
          <a:xfrm>
            <a:off x="838080" y="3505320"/>
            <a:ext cx="2819520" cy="2286000"/>
          </a:xfrm>
          <a:prstGeom prst="rect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  <a:ea typeface="宋体"/>
              </a:rPr>
              <a:t>Borrowing mone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If you borrow P dollars at a monthly interest rate of r (as a decimal) and want to pay off the loan in t months, then the monthly payme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rbel"/>
                <a:ea typeface="宋体"/>
              </a:rPr>
              <a:t>M(P, r, t)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in dollars is calculated us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P = amount borrowed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r = monthly interest rate, as a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     decima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t = number of month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M = monthly paym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6" name="Object 4"/>
          <p:cNvGraphicFramePr/>
          <p:nvPr/>
        </p:nvGraphicFramePr>
        <p:xfrm>
          <a:off x="838080" y="3809880"/>
          <a:ext cx="236232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9880"/>
                    <a:ext cx="236232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What does M(6000, .035, 60) mean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Find the monthly paymen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Suppose we borrow $5600 with a monthly interest rate of .825% and want to pay the loan off in 4 years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ge 81 #21-22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lving Equatio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emperature Proble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age 83 #33-36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ge 86 #47-4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Title 3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1.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wo-Variable Dat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rdered Pai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omai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ang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- Page 17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15. Teacher Salary Compariso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Over 60% of men not in the teaching profession earn a higher salary than men who are teachers. The table shows how much more money the average college-educated male non-teacher makes as compared to the average male teacher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4656240" y="1219320"/>
          <a:ext cx="4038480" cy="40590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Y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Percent M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Earned by Non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eachers 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ompared 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eac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9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3.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9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.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9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9.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9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3.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9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6.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7.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0.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432" name="TextBox 8"/>
          <p:cNvSpPr/>
          <p:nvPr/>
        </p:nvSpPr>
        <p:spPr>
          <a:xfrm>
            <a:off x="4572000" y="548640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ource: www.nea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r example, in 1990 male non-teac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ade 37.5% more than male teachers on aver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omain and Rang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宋体"/>
              </a:rPr>
              <a:t>Domain- the input value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In an (x, y) situation, these are the “x” values.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The domain is the set of values that are plugged into a function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When it is limited to values that make sense in the real world it is called the practical domain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宋体"/>
              </a:rPr>
              <a:t>Range- the output valu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In an (x, y) situation, these are the “y” values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The range is the set of solutions we get from plugging the domain values into a function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When it is limited to values that make sense in the real world it is called the practical domain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tate the Domain and the Rang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2, 3), (-3, 7), (8,3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Gathering Data from graph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ge 102 #1-6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ge 103 #16 Cell Phone Subscribe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ge 104-105 #18-22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Title 3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1.5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ge 122 #2, 3, 6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ge 125 #9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ge 132 #27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Title 3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1.6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nverse Functio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function f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orbel"/>
              </a:rPr>
              <a:t>-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is the notation whose inputs are the outputs of f and whose outputs are the inputs of f.   (switch the domain and rang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ge 149 #4, 5, 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ge 151 #17, 18, 2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- Page 17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. Describe the trend observed in these dat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. Why was there such a big jump in the percentage of non-teachers who earn a higher salary than teachers from 1990 to 2000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. What does the –3.6% in 1940 indicate about salaries of male teachers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4343400"/>
            <a:ext cx="77724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hapter 1 in Review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roblem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age 157 #2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age 159 #4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age 161 #7, 8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age 162 #10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age 163 #11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age 165 #13, 14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age 168 #22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age 169 #23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age 170 #24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age 173 #27-29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age 174 #31, 32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- Page 19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8. </a:t>
            </a: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Super Bowl Ticket Pric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table shows the price of a Super Bowl ticket for selected Super Bowl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656240" y="1770120"/>
          <a:ext cx="4038480" cy="3978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uper Bowl Tick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 (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$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V (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$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X (10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$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XV (1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$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XX (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$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XXV (2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$1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XXX (3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$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XXXV (3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$3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XL (4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$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438" name="TextBox 6"/>
          <p:cNvSpPr/>
          <p:nvPr/>
        </p:nvSpPr>
        <p:spPr>
          <a:xfrm>
            <a:off x="4724280" y="59436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(Source: www.superbowl.com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. Describe the trend seen in these data. Are prices increasing or decreasing over time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. Compare the difference in ticket face value from one year to the next. What patterns do you notice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.  Predict the face value of a ticket for the 60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orbel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Super Bowl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itle 3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1.2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unction Not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y = f(x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put (independent variabl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utput (dependent variabl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unctio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relation is a function if each input value has exactly one output valu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01:09:26Z</dcterms:created>
  <dc:creator>Preferred Customer</dc:creator>
  <dc:description/>
  <dc:language>en-US</dc:language>
  <cp:lastModifiedBy>Preferred Customer</cp:lastModifiedBy>
  <dcterms:modified xsi:type="dcterms:W3CDTF">2009-09-01T03:06:23Z</dcterms:modified>
  <cp:revision>16</cp:revision>
  <dc:subject/>
  <dc:title>1.1 Mathematical Modeling</dc:title>
</cp:coreProperties>
</file>